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A05-50C1-409B-B6AF-4C973A64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F73-2A8E-42D5-BCCF-E3842BD1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C47-541E-4E62-8998-48B73924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418-38ED-4C64-929F-52D3D149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C59F-D7A9-47C2-8902-0A69895F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38EC-58B3-46BA-BD4D-DCC8E972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3A5D-6AAB-43F1-B410-3546FA4F5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BA2C-2E61-4FDF-9CEF-484B25C3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E0FD-EEDA-4A4F-9C91-DC9B7E2A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7FA6-FF3B-4BF3-BD2A-FCD4A474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61CA-F68D-47D8-B314-F4DE3DA4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7C9-078E-43F6-A5DC-2745375A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C2E6-5B38-42FE-B8AF-7C88502A5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14880" y="0"/>
            <a:ext cx="4971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886200" cy="10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مباركٌ من فدانا بموتِهِ وأحيانـ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يا فادينـــا حقّقْ فينا سرَّ الفـد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Simplified Arabic"/>
                <a:cs typeface="Times New Roman"/>
              </a:rPr>
              <a:t>الآلامَ وموتـَـكَ والقيامـــــة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449568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يـا مـن غـدا في المماتِ سـرَّ الفِدا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      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Simplified Arabic"/>
              </a:rPr>
              <a:t>للحياةِ ربَّ الجودِ فوقَ العودِ</a:t>
            </a:r>
            <a:r>
              <a:rPr b="1" lang="en-US" sz="4400" spc="-1" strike="noStrike">
                <a:solidFill>
                  <a:srgbClr val="ffcccc"/>
                </a:solidFill>
                <a:latin typeface="Times New Roman"/>
                <a:ea typeface="Simplified Arabic"/>
              </a:rPr>
              <a:t>           </a:t>
            </a:r>
            <a:r>
              <a:rPr b="1" lang="ar-SA" sz="4400" spc="-1" strike="noStrike">
                <a:solidFill>
                  <a:srgbClr val="ffcccc"/>
                </a:solidFill>
                <a:latin typeface="Times New Roman"/>
                <a:cs typeface="Times New Roman"/>
              </a:rPr>
              <a:t>يــا للحـبِ  حـبِّ الـربِ غمـرِ الحــبِ اللامحـدودِ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52578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بارك يومُ الجمعة يسقـي الرجـا صِدقَ الدمعـ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شدو البيعـة لفاديهـا الإبـنِ الحبيب الممدودِ على الصليب رهنِ التعذي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809880" cy="10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Simplified Arabic"/>
              </a:rPr>
              <a:t>نمجدُ الآبَ المحجوب ونحمَدُ الإبنَ المصلوب نشدو الشكر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الـروحَ الحنـّانْ ألثالوثَ اللّـهَ الأوحدْ سراً يُعبَدْ طولَ  الأزمان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27544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6:11:23Z</dcterms:created>
  <dc:creator>SUZANNE.MD</dc:creator>
  <dc:description/>
  <dc:language>en-US</dc:language>
  <cp:lastModifiedBy>HANI SAFI</cp:lastModifiedBy>
  <dcterms:modified xsi:type="dcterms:W3CDTF">2003-04-16T13:59:54Z</dcterms:modified>
  <cp:revision>3</cp:revision>
  <dc:subject/>
  <dc:title>PowerPoint Presentation</dc:title>
</cp:coreProperties>
</file>